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B64-8566-49B7-8083-E1DA24D2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13A7-3CA8-4E16-81BB-96B96500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8CB-460C-4F95-AD51-A912E509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349-E9D3-4871-9CD0-F8F23112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9F9-69A2-45F4-8B70-49EFC774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FA1-0B92-46BA-8CBA-3A9C5A0B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EDA-2686-4AC1-AE80-845A0C11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AC52-DF0F-4167-AFC8-9ABC82EB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C1E2-2E10-47BD-8F0D-407F45B5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7EE7-A97A-43EA-A43C-D8872AA7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AEE3-FA3B-4A21-89FF-BB9BE4E4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BF82-3766-4823-B4EF-D40714B2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9764-7132-41C0-A5E8-B67FDB726E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0"/>
          <p:cNvSpPr/>
          <p:nvPr/>
        </p:nvSpPr>
        <p:spPr>
          <a:xfrm>
            <a:off x="2196000" y="25920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дачи линейной алгеб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_x0013_ﮨ_x0018_ﮰ_x0018_x"/>
          <p:cNvPicPr/>
          <p:nvPr/>
        </p:nvPicPr>
        <p:blipFill>
          <a:blip r:embed="rId1"/>
          <a:stretch/>
        </p:blipFill>
        <p:spPr>
          <a:xfrm>
            <a:off x="250920" y="836640"/>
            <a:ext cx="4825800" cy="2519280"/>
          </a:xfrm>
          <a:prstGeom prst="rect">
            <a:avLst/>
          </a:prstGeom>
          <a:ln w="0">
            <a:noFill/>
          </a:ln>
        </p:spPr>
      </p:pic>
      <p:sp>
        <p:nvSpPr>
          <p:cNvPr id="43" name="Line 3"/>
          <p:cNvSpPr/>
          <p:nvPr/>
        </p:nvSpPr>
        <p:spPr>
          <a:xfrm flipV="1">
            <a:off x="1763640" y="1484280"/>
            <a:ext cx="244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_x0013_縀ʠ縈ʠx"/>
          <p:cNvPicPr/>
          <p:nvPr/>
        </p:nvPicPr>
        <p:blipFill>
          <a:blip r:embed="rId2"/>
          <a:stretch/>
        </p:blipFill>
        <p:spPr>
          <a:xfrm>
            <a:off x="179280" y="3716280"/>
            <a:ext cx="3240360" cy="2098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5184720" y="1125360"/>
            <a:ext cx="3959280" cy="204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_x0013_Ḑ_x0018_Ḙ_x0018_x"/>
          <p:cNvPicPr/>
          <p:nvPr/>
        </p:nvPicPr>
        <p:blipFill>
          <a:blip r:embed="rId4"/>
          <a:stretch/>
        </p:blipFill>
        <p:spPr>
          <a:xfrm>
            <a:off x="3492360" y="3789360"/>
            <a:ext cx="54007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_x0013_Ⅸ_x0018_ⅰ_x0018_x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97080" y="69228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Гау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_x0013_à_x0019_è_x0019_x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541800" y="260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Кра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23280" y="5877000"/>
            <a:ext cx="828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случай, когда определитель матрицы ра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лю. Решение проводится методом Гау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-301680"/>
            <a:ext cx="9144000" cy="71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758160" y="18900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ешение дифференциальных уравнений в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athCA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3200" y="764280"/>
            <a:ext cx="83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 Обыкновенных Дифференциальных Уравнений (ОДУ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26520" y="141192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ДУ первого поря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468360" y="1987920"/>
            <a:ext cx="16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’)=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483640" y="1987920"/>
            <a:ext cx="24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’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)=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5148000" y="198792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396360" y="256428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ДУ высших поряд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393840" y="328356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(x,y,y’,y’’, …,y(n))=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463320" y="3859560"/>
            <a:ext cx="48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(x, y(x), y’(x), y’’(x),…, y(n)(x))=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534960" y="4651920"/>
            <a:ext cx="37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’, …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821880" y="5659920"/>
            <a:ext cx="37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’ = F(x, Y),     Y(x0) = Y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324000" y="1052640"/>
                <a:ext cx="3384360" cy="32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''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'''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Rectangle 4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4211640" y="1052640"/>
                <a:ext cx="890640" cy="31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Rectangle 6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5867280" y="1052640"/>
                <a:ext cx="2713320" cy="30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Text Box 8"/>
          <p:cNvSpPr/>
          <p:nvPr/>
        </p:nvSpPr>
        <p:spPr>
          <a:xfrm>
            <a:off x="2629800" y="4365720"/>
            <a:ext cx="42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тор первых производ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5809320" y="486900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тор правых ч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97800" y="436572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750960" y="40464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’ = F(x, Y),     Y(x0) = Y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50920" y="332280"/>
            <a:ext cx="63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) Вычислительный блок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Given</a:t>
            </a:r>
            <a:r>
              <a:rPr b="0" i="1" lang="ru-RU" sz="2400" spc="-1" strike="noStrike">
                <a:solidFill>
                  <a:srgbClr val="ff9900"/>
                </a:solidFill>
                <a:latin typeface="Arial"/>
              </a:rPr>
              <a:t> /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Odeso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_x0013_࿨Ҳ࿰Ҳx"/>
          <p:cNvPicPr/>
          <p:nvPr/>
        </p:nvPicPr>
        <p:blipFill>
          <a:blip r:embed="rId1"/>
          <a:stretch/>
        </p:blipFill>
        <p:spPr>
          <a:xfrm>
            <a:off x="468360" y="1628640"/>
            <a:ext cx="8675640" cy="50101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322560" y="955800"/>
            <a:ext cx="34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первого 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932720" y="112428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Рунге-Кут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_x0013_钐໯钘໯x"/>
          <p:cNvPicPr/>
          <p:nvPr/>
        </p:nvPicPr>
        <p:blipFill>
          <a:blip r:embed="rId1"/>
          <a:stretch/>
        </p:blipFill>
        <p:spPr>
          <a:xfrm>
            <a:off x="539640" y="833400"/>
            <a:ext cx="8280360" cy="60246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446040" y="25560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второго 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54720" y="331560"/>
            <a:ext cx="70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ьтернативный мет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шения 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встроенных функций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kfixed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kadapt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, или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Bulsto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50920" y="16606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kfixe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етод Рунге-Кутта с фиксированным шагом интегр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563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kadap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етод Рунге-Кутта с переменным шагом интегр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96360" y="3499200"/>
            <a:ext cx="52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lsto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етод Булирша – Шт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_x0013_ૐҭ૘ҭx"/>
          <p:cNvPicPr/>
          <p:nvPr/>
        </p:nvPicPr>
        <p:blipFill>
          <a:blip r:embed="rId1"/>
          <a:stretch/>
        </p:blipFill>
        <p:spPr>
          <a:xfrm>
            <a:off x="468360" y="836640"/>
            <a:ext cx="8496360" cy="5965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538560" y="189000"/>
            <a:ext cx="34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первого 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539640" y="1844640"/>
          <a:ext cx="806472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44640"/>
                    <a:ext cx="806472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3"/>
          <p:cNvSpPr/>
          <p:nvPr/>
        </p:nvSpPr>
        <p:spPr>
          <a:xfrm>
            <a:off x="609480" y="66816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авнение второго 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_x0013_ᛸ_x0019_ᜀ_x0019_x"/>
          <p:cNvPicPr/>
          <p:nvPr/>
        </p:nvPicPr>
        <p:blipFill>
          <a:blip r:embed="rId1"/>
          <a:stretch/>
        </p:blipFill>
        <p:spPr>
          <a:xfrm>
            <a:off x="1116000" y="476280"/>
            <a:ext cx="1871640" cy="1049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_x0013_ᛸ_x0019_ᜀ_x0019_x"/>
          <p:cNvPicPr/>
          <p:nvPr/>
        </p:nvPicPr>
        <p:blipFill>
          <a:blip r:embed="rId2"/>
          <a:stretch/>
        </p:blipFill>
        <p:spPr>
          <a:xfrm>
            <a:off x="2987640" y="260280"/>
            <a:ext cx="5940360" cy="193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_x0013_䷐һ䷘һx"/>
          <p:cNvPicPr/>
          <p:nvPr/>
        </p:nvPicPr>
        <p:blipFill>
          <a:blip r:embed="rId3"/>
          <a:stretch/>
        </p:blipFill>
        <p:spPr>
          <a:xfrm>
            <a:off x="684360" y="263700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_x0013_케Ӏ켈Ӏx"/>
          <p:cNvPicPr/>
          <p:nvPr/>
        </p:nvPicPr>
        <p:blipFill>
          <a:blip r:embed="rId4"/>
          <a:stretch/>
        </p:blipFill>
        <p:spPr>
          <a:xfrm>
            <a:off x="2916360" y="2708280"/>
            <a:ext cx="1726920" cy="1515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_x0013_儨Ҷ儰Ҷx"/>
          <p:cNvPicPr/>
          <p:nvPr/>
        </p:nvPicPr>
        <p:blipFill>
          <a:blip r:embed="rId5"/>
          <a:stretch/>
        </p:blipFill>
        <p:spPr>
          <a:xfrm>
            <a:off x="0" y="4365720"/>
            <a:ext cx="914400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900000" y="0"/>
          <a:ext cx="6912000" cy="65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0"/>
                    <a:ext cx="691200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541080" y="2592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9900"/>
                </a:solidFill>
                <a:uFillTx/>
                <a:latin typeface="Arial"/>
              </a:rPr>
              <a:t>Решение систем ОД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11280" y="1556280"/>
            <a:ext cx="37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Блок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Given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Odesolve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68360" y="2275560"/>
            <a:ext cx="74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Встроенные функции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kfixed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kadapt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Bulsto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1476360" y="2997360"/>
                <a:ext cx="3348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_x0013_䤨ұ䤰ұx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_x0013_@ʈHʈx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_x0013_쑐_x0018_쑘_x0018_x"/>
          <p:cNvPicPr/>
          <p:nvPr/>
        </p:nvPicPr>
        <p:blipFill>
          <a:blip r:embed="rId1"/>
          <a:stretch/>
        </p:blipFill>
        <p:spPr>
          <a:xfrm>
            <a:off x="468360" y="260280"/>
            <a:ext cx="961920" cy="100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_x0013_ƘʌƠʌx"/>
          <p:cNvPicPr/>
          <p:nvPr/>
        </p:nvPicPr>
        <p:blipFill>
          <a:blip r:embed="rId2"/>
          <a:stretch/>
        </p:blipFill>
        <p:spPr>
          <a:xfrm>
            <a:off x="250920" y="1484280"/>
            <a:ext cx="8713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03120" y="63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Матрич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14160" y="765000"/>
            <a:ext cx="23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ервая групп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606960" y="1265760"/>
            <a:ext cx="400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ri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a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t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gmen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c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matri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_x0013_㜨_x0018_㜰_x0018_x"/>
          <p:cNvPicPr/>
          <p:nvPr/>
        </p:nvPicPr>
        <p:blipFill>
          <a:blip r:embed="rId1"/>
          <a:stretch/>
        </p:blipFill>
        <p:spPr>
          <a:xfrm>
            <a:off x="0" y="0"/>
            <a:ext cx="8820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06720" y="13500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тор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405440" y="831240"/>
            <a:ext cx="2846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ngt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r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ers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r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or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or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w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79080" y="6336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реть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829080" y="833400"/>
            <a:ext cx="250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re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n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genval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genvec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genve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m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olv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_x0013_ʋʋx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_x0013_ʋʋx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27082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250920" y="189000"/>
                <a:ext cx="32763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7"/>
          <p:cNvSpPr/>
          <p:nvPr/>
        </p:nvSpPr>
        <p:spPr>
          <a:xfrm>
            <a:off x="180000" y="3283560"/>
            <a:ext cx="80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Решение систем линейных алгебраических уравн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27240" y="3744000"/>
            <a:ext cx="51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однород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а уравн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9"/>
              <p:cNvSpPr txBox="1"/>
              <p:nvPr/>
            </p:nvSpPr>
            <p:spPr>
              <a:xfrm>
                <a:off x="1042920" y="4221000"/>
                <a:ext cx="2376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11"/>
          <p:cNvSpPr/>
          <p:nvPr/>
        </p:nvSpPr>
        <p:spPr>
          <a:xfrm>
            <a:off x="447840" y="4888080"/>
            <a:ext cx="750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ль матрицы не равен нулю, 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способа решения: 1) Метод обратной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Метод Гау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Метод Кра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9:30:35Z</dcterms:created>
  <dc:creator>Oleg A. Shevchenko</dc:creator>
  <dc:description/>
  <dc:language>en-US</dc:language>
  <cp:lastModifiedBy>Admin</cp:lastModifiedBy>
  <dcterms:modified xsi:type="dcterms:W3CDTF">2010-11-22T15:17:30Z</dcterms:modified>
  <cp:revision>31</cp:revision>
  <dc:subject/>
  <dc:title>Слайд 1</dc:title>
</cp:coreProperties>
</file>